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EDAB7-FD29-4E90-B8E0-69A01D87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F3AB-2D4D-40CF-B7D8-29B55040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03D5-5795-4B31-AD8E-A9D0EB656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688A4-796B-4D53-BB27-F64F3FB36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40834-3244-413F-9DE5-A5A46D67C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36F96-677E-4749-B547-8CE2DD6D0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CBF01-4857-432D-BBB9-4D4EE5F82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A8EF4-2E08-4090-A23C-5A9718B2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0A6A1-7302-4A49-988D-1934E831F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44B3-EC36-4950-89B6-A3ABD13CB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FD0EC-2BB6-4B3B-B41F-E80AEE4B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A58D-6E24-49D0-9519-601A17DB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D948-7566-4C87-8498-ACA06336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9B67A-1AA8-466B-A37F-8E3ABB42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2197-1765-4A48-9302-EF87BD9FD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C216F-C139-44DE-B183-74FCB5FC2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22521-7862-4392-855E-8B631A896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B8B33-1EEC-494F-B2EC-73B1893F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0095-C5E0-4786-B04C-DF1BC2EF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3FED9-AE17-453C-BE0D-35B6E63B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42D94-6A9C-4545-96F9-F5EC7131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D756-A608-4CFE-9DB7-9167A580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2976-C8ED-43A0-B1E8-D3565648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BE87-989D-4015-A5B7-133863427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F4CD-49A7-4C83-898C-013F7EE337B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8476-D838-410A-9191-C4299E1E3E4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reative Writ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gust 24, 201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ing Warm-up</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n in a cowboy hat walks into a saloon in a bad Western movie. He’s looking dangerous and mad. Tell what happens, creating a happ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MOIR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ds </a:t>
            </a:r>
            <a:r>
              <a:rPr b="0" i="1" lang="en-US" sz="2800" spc="-1" strike="noStrike">
                <a:solidFill>
                  <a:srgbClr val="003366"/>
                </a:solidFill>
                <a:latin typeface="Arial"/>
              </a:rPr>
              <a:t>memoir</a:t>
            </a:r>
            <a:r>
              <a:rPr b="0" lang="en-US" sz="2800" spc="-1" strike="noStrike">
                <a:solidFill>
                  <a:srgbClr val="003366"/>
                </a:solidFill>
                <a:latin typeface="Arial"/>
              </a:rPr>
              <a:t> and </a:t>
            </a:r>
            <a:r>
              <a:rPr b="0" i="1" lang="en-US" sz="2800" spc="-1" strike="noStrike">
                <a:solidFill>
                  <a:srgbClr val="003366"/>
                </a:solidFill>
                <a:latin typeface="Arial"/>
              </a:rPr>
              <a:t>memory</a:t>
            </a:r>
            <a:r>
              <a:rPr b="0" lang="en-US" sz="2800" spc="-1" strike="noStrike">
                <a:solidFill>
                  <a:srgbClr val="003366"/>
                </a:solidFill>
                <a:latin typeface="Arial"/>
              </a:rPr>
              <a:t> come from the same root word.  However, good memoirs explore and reflect on a central theme or question.  They invite readers to explore and reflect with the narrator to try to </a:t>
            </a:r>
            <a:r>
              <a:rPr b="0" lang="en-US" sz="2800" spc="-1" strike="noStrike" u="sng">
                <a:solidFill>
                  <a:srgbClr val="003366"/>
                </a:solidFill>
                <a:uFillTx/>
                <a:latin typeface="Arial"/>
              </a:rPr>
              <a:t>unravel the deeper significance of the recounted ev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MOIR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tion:  Sets the sce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ption of event/plo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ion of the signific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ution of the ev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clusion:  What the writer learn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DIALOGU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ow the characters to reveal key details about themselves through dialogue rather than your constant narration.  Use dialogue occasionally to reveal themes and ideas that are key to understanding your piec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dialogue to further the story:  Anytime you use dialogue, the story should move forward.  Dialogues between characters are key moments that should change the flow of the story in an important wa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rite the way your characters speak:  People often don’t speak in proper English, or in full thought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im the extra words:  In real dialogue, people often say more than they need to say.  You can trim out the unnecessary detail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dentify who is talking:  The readers should know who is talking, so make sure your use dialogue tag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 careful not to overuse dialogue.</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y</a:t>
            </a:r>
            <a:endParaRPr b="1" lang="en-US" sz="3600" spc="-1" strike="noStrike">
              <a:solidFill>
                <a:srgbClr val="006666"/>
              </a:solidFill>
              <a:latin typeface="Arial"/>
            </a:endParaRPr>
          </a:p>
        </p:txBody>
      </p:sp>
      <p:sp>
        <p:nvSpPr>
          <p:cNvPr id="10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A Hole in My Life </a:t>
            </a:r>
            <a:r>
              <a:rPr b="0" lang="en-US" sz="2800" spc="-1" strike="noStrike">
                <a:solidFill>
                  <a:srgbClr val="003366"/>
                </a:solidFill>
                <a:latin typeface="Arial"/>
              </a:rPr>
              <a:t>by Jack Gant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ment</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orkshe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8:07:15Z</dcterms:created>
  <dc:creator>Julie Hawker</dc:creator>
  <dc:description/>
  <dc:language>en-US</dc:language>
  <cp:lastModifiedBy>Angie McCall</cp:lastModifiedBy>
  <dcterms:modified xsi:type="dcterms:W3CDTF">2011-08-24T14:45:30Z</dcterms:modified>
  <cp:revision>8</cp:revision>
  <dc:subject/>
  <dc:title>MEMOIRS</dc:title>
</cp:coreProperties>
</file>